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097632"/>
        <c:axId val="46587820"/>
      </c:barChart>
      <c:catAx>
        <c:axId val="180976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87820"/>
        <c:crosses val="autoZero"/>
        <c:auto val="1"/>
        <c:lblAlgn val="ctr"/>
        <c:lblOffset val="100"/>
        <c:noMultiLvlLbl val="0"/>
      </c:catAx>
      <c:valAx>
        <c:axId val="465878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976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65E-6098-4D65-BC28-ECB91CAA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89E5-FAD9-4CDF-BFEA-40A854AB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E913-29FB-4E77-8A55-C58740AB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C199-4B03-4751-9552-79A2A5BE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EACE-8935-4CC9-B8E5-734B2016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2E7D-2AA4-497C-8787-9DBE2A3F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5B79-A25C-48DC-ADCE-2F0F9BF0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24AD-937C-45E8-8D20-7FDAB9E8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B905-AEB9-4BAF-B963-CBB1CA1E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B285-A6D0-4823-A95E-DE3CFEA2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EF01-D46F-436D-925F-B8D56359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2879-B6C8-4A89-AD37-DFD8E84A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91CC1-31BC-43F2-90DD-4373F28AB0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