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1233"/>
        <c:axId val="34616493"/>
      </c:barChart>
      <c:catAx>
        <c:axId val="3831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16493"/>
        <c:crosses val="autoZero"/>
        <c:auto val="1"/>
        <c:lblAlgn val="ctr"/>
        <c:lblOffset val="100"/>
        <c:noMultiLvlLbl val="0"/>
      </c:catAx>
      <c:valAx>
        <c:axId val="34616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1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240-8103-42BE-A1F3-D084E84F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157-CB54-4C32-A114-FE87BE5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D0B-962B-4FDF-BBF4-4D12FC85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31C-C531-401D-99CF-01175163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446-5C39-4B8F-B3CE-B385D16D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C0D-FBD4-45AE-A837-EAB26887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C80-7D7D-41BF-A398-C223DFE8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801-4B21-4E59-90C8-4E2326D5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AEB-94E3-40D9-A581-FF80D684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FBF-BA54-4C30-9384-C1D1561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925-FFB8-49E0-9543-48AE0FFA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015-EEF4-446E-BDEB-68DBBE4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35E38-CF79-4EF0-AAA7-D4D7FE72C5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