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83541"/>
        <c:axId val="39827720"/>
      </c:barChart>
      <c:catAx>
        <c:axId val="68883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27720"/>
        <c:crosses val="autoZero"/>
        <c:auto val="1"/>
        <c:lblAlgn val="ctr"/>
        <c:lblOffset val="100"/>
        <c:noMultiLvlLbl val="0"/>
      </c:catAx>
      <c:valAx>
        <c:axId val="39827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83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11A-9372-44CE-81C6-190E7149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D14-D288-4B04-8B4D-2AC6D4A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707-8332-4C95-ACF3-21FA2851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035-056B-4DAD-9694-2157ED5A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6D6-485B-4555-A9BC-B5F004A4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576-CA33-4871-BF59-6979969D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04F-C307-467A-B964-C745B3E9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DB5-A513-4C18-96B3-B20D6C8D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1B2-C6BE-4075-BBF6-6DF0C66C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0F4-3543-4F51-8C13-E33A18F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075-12A3-44EF-88AB-90A378B9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044-02A0-4CB6-BF35-9E875B0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78BEC-FB73-4A7D-AD66-C344E5991A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