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207383"/>
        <c:axId val="80436097"/>
      </c:barChart>
      <c:catAx>
        <c:axId val="212073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436097"/>
        <c:crosses val="autoZero"/>
        <c:auto val="1"/>
        <c:lblAlgn val="ctr"/>
        <c:lblOffset val="100"/>
        <c:noMultiLvlLbl val="0"/>
      </c:catAx>
      <c:valAx>
        <c:axId val="804360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2073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1573-4192-4D89-9925-95BBBD7C6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752F-A78D-4656-A441-DC96A7AB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A9F7-ED92-426C-8EEB-591F00D4F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F00F-C906-4892-B9DF-4CF43343D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5170-0029-42A4-85D4-656BF06F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3AE5-135A-46E1-AC25-DD683851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27FA-EAA8-4DA2-ABBF-8B3455CA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6D49-DF0A-4B76-96CA-F90353F9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C356-9C8B-4870-B926-AA8D616C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F486-0369-4505-8EFA-B4BCCDAA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F876-C93F-4907-8553-7EAB1709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F4DA-F4C2-4B0A-8247-B040F3DC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B8F01-4B0C-4D90-8B77-5730127357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