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64572"/>
        <c:axId val="94134304"/>
      </c:barChart>
      <c:catAx>
        <c:axId val="74464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34304"/>
        <c:crosses val="autoZero"/>
        <c:auto val="1"/>
        <c:lblAlgn val="ctr"/>
        <c:lblOffset val="100"/>
        <c:noMultiLvlLbl val="0"/>
      </c:catAx>
      <c:valAx>
        <c:axId val="94134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64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A08-1706-4750-B988-DE88E62F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2F5-9445-4841-A6D7-DB856E47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1D9-2F8D-4B57-A0DB-66F5A363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3D2-7E06-4701-86CC-0F83F8DB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9F3-F0C1-48CC-B807-610FC1A9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057-73F2-4F1F-8764-D8C41A49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E5B-8A95-439F-9E0C-7515281F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265-0657-4626-98B3-9F312D4E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B6B-A90B-41B4-AA58-2C1CBA17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5C1-2AF1-4971-9242-BF10CEEF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B15-7936-45E8-A75F-2BC2E33C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E1A-7051-4447-AB67-B67DD2DF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2C717-EC78-484A-B0EF-E57FA9DA11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