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96148"/>
        <c:axId val="74641039"/>
      </c:barChart>
      <c:catAx>
        <c:axId val="33896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1039"/>
        <c:crosses val="autoZero"/>
        <c:auto val="1"/>
        <c:lblAlgn val="ctr"/>
        <c:lblOffset val="100"/>
        <c:noMultiLvlLbl val="0"/>
      </c:catAx>
      <c:valAx>
        <c:axId val="74641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6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572-7945-416F-94F2-388ABA46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C3A-4537-4C0C-90E7-4685042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91D-6F13-4E2A-AE54-83944B3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ADA-F566-4528-8253-7843DF4E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C2-78A9-4900-A1B7-8FF3046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EDD-84FD-4093-828D-9EA877DA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A49-D4A1-4679-B272-E6C3AF1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CD5-5901-49C5-A6D1-92E67E5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6DF-241A-42EB-A86E-FC279A45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BAF-E47E-4F41-8A48-B3250C0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E9C-DE7E-490E-B40C-4A11D3C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0BE-F9B7-42B3-9113-C04A5C8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F9B1D-182A-48D7-8F7D-592EC35E5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