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15927"/>
        <c:axId val="48961014"/>
      </c:barChart>
      <c:catAx>
        <c:axId val="77715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61014"/>
        <c:crosses val="autoZero"/>
        <c:auto val="1"/>
        <c:lblAlgn val="ctr"/>
        <c:lblOffset val="100"/>
        <c:noMultiLvlLbl val="0"/>
      </c:catAx>
      <c:valAx>
        <c:axId val="48961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15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BAE-40A5-41F8-A1BF-B78D206F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B217-230B-4FF1-BF5D-AC8822F3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604-032E-45DF-A940-B8205C63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5B9-E962-4EB3-B5F3-100F0116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CFD-24BA-4E42-9BB8-21966049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3A2-DB67-4F88-8D2E-77E9C095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A6C-0613-4065-B553-C4D4BE4B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8A8-F368-40BE-AC0E-21D8A5E8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A6E-9CD8-41DA-8FB0-9E6EA4C7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B58-91F8-4C9B-B069-1E443C6C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E79-1E02-4463-8206-8E9D21B4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AE1-8A6F-42AF-AB90-0D628AB3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6057B-BE6D-4F17-A3DF-6E17859C84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