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89456"/>
        <c:axId val="70183466"/>
      </c:barChart>
      <c:catAx>
        <c:axId val="70489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83466"/>
        <c:crosses val="autoZero"/>
        <c:auto val="1"/>
        <c:lblAlgn val="ctr"/>
        <c:lblOffset val="100"/>
        <c:noMultiLvlLbl val="0"/>
      </c:catAx>
      <c:valAx>
        <c:axId val="70183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89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5EB-51F5-4E16-8080-658014AD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69C-5F35-45A0-8026-8FC94772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ED7-3052-4F2C-8F34-44441ED8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7D7-553E-4F95-89A8-A0E28D5F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7DA-DCC3-422B-BACB-CA8B1A50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ED6-9BB2-4614-910F-4D1EABB1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1B3-CA22-4F18-B092-D3647B35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603-413D-4366-B410-0CA81CF8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CFA-DB53-488C-9245-0A213841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A6B-FD00-4531-9892-6E0ECD89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DE3-C5A0-4792-880E-FC0905F1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E76-B8EA-45C2-9FEC-A416492A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8522B-6176-4E84-9B77-64BC5A8CF8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