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43146"/>
        <c:axId val="74046748"/>
      </c:barChart>
      <c:catAx>
        <c:axId val="67243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46748"/>
        <c:crosses val="autoZero"/>
        <c:auto val="1"/>
        <c:lblAlgn val="ctr"/>
        <c:lblOffset val="100"/>
        <c:noMultiLvlLbl val="0"/>
      </c:catAx>
      <c:valAx>
        <c:axId val="74046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3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468-83C4-44A1-BA97-9447F90F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B5E-7110-4230-96EC-FBD0E5A4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F2A-9628-4778-8D62-CF4547EA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20B-F2D5-417C-883B-FAE9B467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4D1-69EC-4F02-8A95-4471452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DCC-20C7-4382-BECA-70C776D4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90E-4217-4B96-86EF-30EF53C2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631-9097-4887-994F-D4D559D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C9D-83C4-4E34-B22D-58AB1BF1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99B-9695-45F2-BA70-1AD2434C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635-F6FB-48B4-BBBE-CA6B937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832-7328-4A2F-B39C-2B9676A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66DA5-2856-4EF6-AB7E-3B87E1F57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