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07792"/>
        <c:axId val="72985845"/>
      </c:barChart>
      <c:catAx>
        <c:axId val="19607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85845"/>
        <c:crosses val="autoZero"/>
        <c:auto val="1"/>
        <c:lblAlgn val="ctr"/>
        <c:lblOffset val="100"/>
        <c:noMultiLvlLbl val="0"/>
      </c:catAx>
      <c:valAx>
        <c:axId val="72985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07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BF6D-4D49-43FE-86BB-E5B06A28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778-5CD4-4E2D-9903-BD142DC0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F3D-4FD8-4537-AAC4-BA78CAC1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4121-F588-4C27-99A4-0E0CB567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47C-B7F3-4B76-8175-DCEEB533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ADE8-E412-4416-8FC0-314B2B67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9A1-A87A-4593-964C-9B7791D6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DD1-3BE8-40CB-AE36-B8436E56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728-33DD-4924-B6A1-0FBD838C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FBE5-290D-453B-86FE-CB754107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DB00-BA2E-427D-8F81-5E68E396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E50B-FE2A-4A1D-A080-F408CFF4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D6B9E-D0FA-4661-940C-5E9B6D82BD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