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34055"/>
        <c:axId val="38093953"/>
      </c:barChart>
      <c:catAx>
        <c:axId val="24334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93953"/>
        <c:crosses val="autoZero"/>
        <c:auto val="1"/>
        <c:lblAlgn val="ctr"/>
        <c:lblOffset val="100"/>
        <c:noMultiLvlLbl val="0"/>
      </c:catAx>
      <c:valAx>
        <c:axId val="38093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34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A78-5B70-4523-8296-AF068D82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4CB-4308-4822-A0E5-B9010B08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121-303D-4435-9701-252A0F3B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BB0-C428-462E-B1C2-09C2E6B3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B72-B378-4829-88F2-704BA0F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ADA-72D0-4F91-A1E4-228D5D4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B43-A85E-4FAA-B5EE-AC84033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7C0-D5F4-4078-BFD6-C11D49C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194-B7DA-43C8-9EB0-FEB00599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6F4-3FDB-4A1A-8D0D-00C71FD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980-3ACD-475F-B53F-C6013FB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009-AF22-44B4-BE3A-B2EE8AE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5701-5791-4A45-A2EB-15E7093C6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