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895"/>
        <c:axId val="60851513"/>
      </c:barChart>
      <c:catAx>
        <c:axId val="1970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51513"/>
        <c:crosses val="autoZero"/>
        <c:auto val="1"/>
        <c:lblAlgn val="ctr"/>
        <c:lblOffset val="100"/>
        <c:noMultiLvlLbl val="0"/>
      </c:catAx>
      <c:valAx>
        <c:axId val="60851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C12-7C7E-4879-A887-5CE7D136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BEA-D82F-4285-A951-B8E44193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919-ECC8-480D-8D30-088B6502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E9B-A0EF-4483-A230-F1DD9FF0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423-7030-4E39-B743-A7CC9FD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3DF-02BC-4312-892C-67148EF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EAF-A235-44EB-8333-EF7A618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79E-D4B3-4094-9636-9899F3DA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575-3A06-47C1-8D2D-6BA57DB8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0F9-9150-46C3-95E7-CA4CD6F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8AE-D80C-4C08-BC8C-90CDD58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98B-B318-4BC0-9ED8-F93BED1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5E5D-CE6E-4A9D-8036-6CEE9E367F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