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43704"/>
        <c:axId val="90557325"/>
      </c:barChart>
      <c:catAx>
        <c:axId val="51543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7325"/>
        <c:crosses val="autoZero"/>
        <c:auto val="1"/>
        <c:lblAlgn val="ctr"/>
        <c:lblOffset val="100"/>
        <c:noMultiLvlLbl val="0"/>
      </c:catAx>
      <c:valAx>
        <c:axId val="90557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43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A69-3C23-470B-ACB0-B5BA18E6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201-4803-47EC-98BA-5686431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779-A716-4E71-8B6B-9A6EBF5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E6F-AFB6-4FAF-BF4A-FE4E3FE9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93B-707A-4829-B29B-A94B219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B32-2F20-4233-A0D4-F3D5D79F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DD2-D32F-4891-A387-BEB62436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7D3-94A4-4539-984F-CC86104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6BF-6D97-459B-9847-E15B783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C83-6B6B-4746-ABE8-6285C866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F33-30FA-44CB-B2E1-02095AE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86F-A245-4336-97A1-AE247D6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1D179-7332-42BC-8ABE-3A741D6A84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