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9255399"/>
        <c:axId val="36282986"/>
      </c:barChart>
      <c:catAx>
        <c:axId val="2925539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282986"/>
        <c:crosses val="autoZero"/>
        <c:auto val="1"/>
        <c:lblAlgn val="ctr"/>
        <c:lblOffset val="100"/>
        <c:noMultiLvlLbl val="0"/>
      </c:catAx>
      <c:valAx>
        <c:axId val="3628298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25539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FE44C-5018-42BC-A4EE-89FF2BB62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2E3F3-4FB9-4DA9-BDB3-1ED0676F3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DB181-838F-403B-93EA-26EA93E99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64364-5849-4C20-A8AF-19A2423A1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36426-3B17-4E7B-A1AD-7CAF38F72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D3E29-F83E-4221-9570-A0119F03E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EB7D2-547F-4734-91FC-E82DD7F89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4C8FD-6385-4FDD-A6E3-8B8D765B1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93E44-A4D3-4B9B-9E30-8FDB13C84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9013C-6AB9-404A-BF1B-A78AA6605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61821-6685-4310-A612-5A78A36C7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3DAA6-1410-48C9-9B16-D24F192F4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8BC678-A70E-441E-BA92-14A04412C39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