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67563"/>
        <c:axId val="5093324"/>
      </c:barChart>
      <c:catAx>
        <c:axId val="710675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3324"/>
        <c:crosses val="autoZero"/>
        <c:auto val="1"/>
        <c:lblAlgn val="ctr"/>
        <c:lblOffset val="100"/>
        <c:noMultiLvlLbl val="0"/>
      </c:catAx>
      <c:valAx>
        <c:axId val="50933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675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3DA1-1C23-4239-9835-5E9D289F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0F1-438B-47CC-AA9A-2CFEA954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2A28-CBDC-4080-847F-C0F74067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AE19-BAC7-4E45-9D2B-871162A6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0DB5-802B-4F40-A073-40BB4D6B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351D-B633-4410-917F-E409A66C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50CA-BD67-472D-9959-9A9E3C4C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8CE-C206-4F41-AF79-8948EFE0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A7C-C60D-4EA5-BA72-53CE8B98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324-50DD-461C-899F-48D9DCC7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9E2A-FA37-47B2-8AEC-56B257A6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C49-EA5B-4BB2-8243-72CC4177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09364-5E34-47F4-9201-CBF4E8DD92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